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79E-442F-45EC-A3BE-A8720E01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321-217E-47E7-A080-45836271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D0EFB-53D1-4926-81DD-EDEEC0A1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E8040-7D6F-422C-A4DD-6C7FF266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449EE-3864-4D9C-B3FE-45902D1F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D3419-F2D8-4FA2-BECF-2FE389C3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5569E-1EAE-43E4-AF07-482D5439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084A8-57F2-4290-8720-399C03B7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B19AA-F11B-4992-8094-D4E3D202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6296C-CDFF-47CC-8895-E11891E7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4CAAC-1EE1-4B9A-B9BE-6FF519AD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0202F-59A4-427B-852E-0A4CE88F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2ED-08BC-4481-9BE0-C36747EF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186CD-C039-40DE-BDB4-CD988604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38803-79A4-44CB-8962-5EF1F63E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E6FCE-3B86-4AA1-9B99-B9213C20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16775-E776-4B39-8A29-0A7AA46F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A1F9A-6CD0-41B2-8FB0-99E3C0C6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F480D-38FB-4614-8C86-0255AC96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2E1FE-7316-41CB-9B56-831D226B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865E0-DB07-4EE0-945E-731F997B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53ECE-2349-4F0F-84ED-64283CB2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B4A13-E60E-47BE-B794-8B6E49ED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A41-AB5F-407F-BD30-6FA49879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AB2C5-5FC3-4A6E-8CF3-11A406AE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B2740-1B9B-4ABB-BD10-1D5DE3AF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DD911-EAC7-4F77-B2B8-2489564E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83D77-10E9-4880-BFDD-CD88042D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D70F6-711A-4EAD-B89D-09AE5F34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81ECF-AD7F-45C9-9544-CB356685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3488D-7BD5-409A-81E8-B05A4C98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CAED2-3192-449F-BF31-BF46FB52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417A5-C42C-401B-ADCF-1C3A9105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93018-C873-4F46-AE57-DD34ED1C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4D7E-FEBE-4466-93AF-BF8E51FA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454B4-2428-47A6-9540-DA4386D7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1F8CB-C96F-498B-885F-F0D670C8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D687A-896A-49D9-9246-7DC0BF60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060C1-566E-4C59-96E3-9FEEE4ED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87B96-3C7C-450C-9264-4805ECC8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56253-8944-44F2-95F6-2E9E4D14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54C6A-2F13-496F-B18B-EE12A97F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D26FB-F469-41CD-ADD7-9A786E26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5BBC0-D93E-48C7-8FCB-810D4D0E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A2642-9163-4F2C-A66B-644B362F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047C-3C97-4F5D-9165-EB4E4631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6B026-2164-448D-91B4-047A359D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BC1C7-CA51-424C-8033-1E0A9807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B2493-63AB-4ABF-90CF-A2AB09A1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BE468-1548-458E-8FD1-5225F2B8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54DB3-A02B-4716-AD38-61A3B526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02D37-E23C-4502-9344-4C35633F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5B8AC-6905-4136-AB1A-68BDCE9D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68370-B919-4E6D-8072-90F2AE2A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4AA96-39AE-41A6-A6C4-D0249076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C6EDC-B4FC-48AB-8946-F3BCC236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0E73-A71B-4E34-8704-69D317AD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CB766-C95F-49DC-AB43-B85F503B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38534-CC4B-4219-8ED2-DA65591F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87798-2802-40CF-AC1B-E68331F3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73423-96EB-458C-8C55-BC1C4B81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A1BE4-F045-4E5A-9ED4-3AB310DC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065A7-BAE1-4C6A-9CD7-03DC33B2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84032-3112-4E8F-9846-C096346F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52CB0D-DF47-45FF-A145-1A3EEED1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04A856-25E1-4A76-B84D-3AF185F2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E60BD4-A27B-4D32-B59D-5BC32B58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5B34-762E-4644-AF76-B392166A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76BD3-9A23-4863-A3D7-5B126471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D54E9-20C2-4DBC-A8A8-30063E10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A3299-061F-4E32-B593-DF7E2F22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E69A8-F29D-4D00-9486-BD320890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B8A9A-EB29-4D2B-9557-B32F5503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2403F-43FE-4992-BBC4-E1643F32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ECAE5-6BFD-462F-BFB2-59397098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A31590-7A68-4C2A-AB18-968DAD05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CA3DBB-978C-4869-B7DF-D2636D71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C8E191-3005-474F-A8A2-863DE8A3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5D5A-B3D5-4A77-90E0-CB313307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84D9D-BB62-44A4-A9AF-5EC09D83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3448FC-D591-4945-817E-7956959C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280578-AE06-4BCA-AE5B-400D9A92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98CB38-060C-4B54-AFD2-BD27470F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5713E0-A799-4895-A850-5CBCD1BD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71906A-BD77-427C-87D8-361EF08A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FF72F4-F290-4C69-82DB-9B52CE1D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F44CF2-318B-4B30-A2FB-4634CC91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777CC2-6EEC-425F-A4BA-529CF2C6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491570-920C-4A2B-8CE7-4D76A885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7734-61C5-42CF-B7F4-F1F821AD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A8FA7D-36DA-4FD2-839C-56A06A3B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C1F3ED-D670-4290-9453-90253106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9F3928-1FEC-4D52-8F21-3E3C7FFF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918D2-85FB-4780-841C-EA0A6394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377054-8A95-4C81-A699-32C7C8A1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E544E7-D853-4FBE-836B-7468F0ED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BD7A27-4DD9-4169-890F-E43817DE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730DF1-0EB9-40E2-8128-3C661892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86B4D-BDCC-4F45-8F4B-E925F42C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B2F930-CE5F-420C-8EA5-467E56BF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FBF9-E72C-444B-BCD3-BC7B09C0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D69E3C-7788-4B64-AC80-FB2FFBAF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F6F786-01C0-4D00-ABC2-5B449EEB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30676-FEB7-4E6B-B578-6BF7DB5B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3377BC-1EC8-4778-9F5E-0DA5FA01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01CB19-00F2-429E-8077-1F2BC668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9D8F3D-703C-4005-81D8-13398FEC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E433DA-6C79-49AA-86D5-D6BBA46F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BAD33D-5F8B-4C1F-A394-824B9729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1D99B8-8CE3-4A63-8266-C8ADCA90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59F329-A987-40EE-9012-81B02180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A46-49BB-4063-BE9F-372927C7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D045-A414-48D4-9779-E10EF08F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6538DB-C62C-455B-A850-73E4E5BC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059984-835E-4A27-94A8-E207CAD4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5C63EA-D0AA-48E9-B4E5-5A72020D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F307F9-F76F-415D-99F3-4ACD44DF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D8E683-7185-4918-8206-CA1EACE9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284B7-5FC7-4241-956F-F3FD6164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9A0DE5-ACF2-4E08-B481-8F2A51FC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13E2BE-A385-4824-A40D-856559F2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DDF5A5-03EB-49E1-AA13-26067E74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031054-9D38-4F5B-AAB2-A592B735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E149-53DD-4D93-8B39-D1D0C6A1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122713-886D-4ABA-B1D3-8C15C31F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7C748D-BB53-4904-B889-82BFDCCE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0BDD97-B76E-47E6-848C-4DFC32F3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78CCE-3E48-4962-8770-D0225538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95BE0B-0CEF-4DA2-85AC-21E8AD45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BDE22D-6D4D-42E1-BAEF-F0862DF6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37A98C-3670-4F0B-862D-36E8CE05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8647D5-D773-4FC5-8D19-D0309956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9AE606-4438-41C2-8AA5-9A60A909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A4B4D1-3CA5-47A6-BBF2-A6F04786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A47F-CD86-4E52-ABA4-BD4E386E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966199-B4AE-457A-913E-B8CBFC8D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C4D798-7A28-43EC-B983-A950DBC2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2EADA2-45BA-4E7A-AEB9-C98D0012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C5F6C5-5048-473A-B1D2-29617447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A7C2A1-2139-44C9-AB04-D68CC46E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5ACC3E-1932-41D7-BCA4-484DA601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17CEE9-2F83-4897-A438-D3E66E2F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684239-D85C-42DA-94A3-68301CF1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A9DF9D-CE51-43D8-B1EA-585FFE31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52EA69-87E5-429A-97BD-C44459B3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FBAC-2522-4F03-8441-A977E08C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329959-A7EC-4C9A-862F-28F1D867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09771E-0F36-4762-959A-9F0D154A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191F49-5941-4F9C-9661-D1C85E80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35348C-AA17-4D27-B955-980D495E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3EA2C5-1FF8-406D-8EF6-2C7A590E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737535-8FB3-400E-8842-0C10CBEB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A3B3DF-8B96-42D1-A3CD-4B34C925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F47273-B825-414A-A70F-C3E579F7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821163-7BCF-44AE-BC7B-CCED6AE5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021B60-0D0E-49C1-9375-B64B2A70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916B-2F6A-4866-AB74-28A8762E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48732B-13BC-487E-B5FC-12D24B8D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406036-A5D7-4072-9F87-4C5ADDC4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A73807-F9D3-4BCC-BAE1-991100B5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15BD06-B0FA-4F4B-8B09-D7137BB4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EADA79-AE1D-41D0-B3A2-6B6B6936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BADC86-7ADC-42C4-A29A-14A4E930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D9A6DB-7BD9-4B82-96C2-59BF31E6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91B3C2-B449-4571-A9E8-C82F2F4C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2B4AAB-7421-4F9F-806A-DEDE5EA7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99FCD2-A291-465D-BCB0-E50959FB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3B57E-316B-444A-9D17-EBA174C4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0506F9-4C08-4616-8DEE-99E65D59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596CCD-CAD0-48C9-9930-3E72264C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5FE894-19C3-4D43-A249-F965C897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BAE97-B04D-482B-86C7-DE2B0C27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3E2F-4B5B-47C2-ACAF-9E262356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50496-0D02-416C-BFB0-4BCEB03A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C02AE-C24F-4362-AE79-8626B318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77A-D4C4-4EFE-8C92-741290E8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F756A-CF43-4AD7-A99C-1348779F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93A57-81A8-466D-9D78-58A12615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D7695-5F9C-4EFB-BF61-C70ED2F2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B2F05-56F1-443F-8DCD-A5C7A4C2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E8B56-994C-497B-838D-7B0A69F2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FD168-A3E7-4F23-9191-ED69E027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B8091-FB7F-45C6-B42C-770DE607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4F80E-A04C-482D-AF03-387D70A6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6F5A9-0413-4434-99C1-972F55AD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0127D-1D23-40FC-BB1E-84440471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EAE-7CC8-4021-99C2-9A003C41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49173-C5AA-4C09-8003-98BC9EFB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9793B-AC55-400F-A5AE-A20E7CCA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C0DC0-58C7-4A39-9732-CB5C4CB7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8909E-CE64-4753-9BC5-62458322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65FEB-7F7E-46FD-8D39-085EF78A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B3E9C-18B2-4EE0-8AC7-0A93A874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F00AD-5F53-4B27-BFB2-BFD4BE9E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64504-4A39-48D8-A684-F7FD9343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08C7A-6B58-47E0-8012-4457D0A1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80FB0-93A4-4B7C-BD51-CE400B66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2BC-8D7D-49F8-B622-6B6857F8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4A6A1-BED6-45BD-BBBA-60A1DFB5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AD159-3D20-458A-9558-5895734D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F3665-693C-493D-B479-DA0EE7E0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43EB7-D3D5-4617-8073-48C6512F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8E510-2E0B-4475-B317-0313C4BF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26D57-14C6-4E9E-B9B2-FE46BA3F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B650D-175B-4BE9-9EBE-519C12FD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6F7BC-5F0F-4105-8DAA-B97A5D61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E2C83-B486-42C4-BFFB-15A749AE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538B7-EF59-4EFE-B7E6-F97D5AAC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E35-915F-45BF-AC0F-B5C39567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5CEA2-761E-47A3-9D65-DFC80225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A1B22-C590-45A2-8654-ED5685B7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D49D2-231B-48FF-9924-5F2A9744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148B4-8C94-4526-819B-F518B74B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604F1-F31B-4384-8265-8E0D543D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351FE-3457-483E-9B98-505C5743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4FDED-F56F-4BE4-9DDA-AA3FF923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03FBC-4E7B-4CFD-8BCA-1E095969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4EEAF-8336-4F09-938C-882798DE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E2E6C-29DE-49D2-B875-4828E69F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501-B20F-420D-85C1-34549CA2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56F7A-8A02-4496-882B-28C09D57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C7C8B-8FD7-49A0-BA7F-79483899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5DFD2-8AE5-448A-8EED-C6C9B7F0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232F6-9C73-46BC-8B32-E7430A76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6EBB7-C570-4EFB-B9F7-4B2987CB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D3381-9286-43BF-B5FB-7D4D4DD7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BFEC0-E0BC-4B2B-8230-D96433E2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21007-93C8-4126-B16D-7C5626DF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67F85-0B77-45E2-9D94-71339604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A1248-AD6F-4E1B-B096-21A102FF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893-3FF3-456A-9DF8-EDE66F49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5D4B8-A5FF-427C-986D-2DECEADE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E97A6-4253-4124-9A11-F686B436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27796-30E5-43E5-BEF1-4BE515F5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BE3B7-DD0F-4081-8EC4-9C2E644B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4A7DD-B7EB-463D-AEC0-9ACFED1A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A7405-6628-4A28-807E-E6264CC7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20139-7E8A-43AA-ACAC-EBE7B1EF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7C14E-FA83-4C93-AA43-FDD27855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E0837-FC34-4FCC-9DEF-13E65DE4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08C97-DA7F-48E6-AD94-B7F825A0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F51-DE7E-4170-9D8E-3D0E7EDA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33D98-0ADB-41F0-8EAF-128FC0A4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D0C78-4CC7-406F-8163-B9EBA3C9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04E84-7A3C-41EB-A0E1-9579B13D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EEECF-8241-4676-9A28-7F8CAD53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40A72-F68A-4725-8522-9C061558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CBDA0-2DDC-42FF-88F0-D3357DF4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EED13-2B48-4139-9F43-702960E9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D244C-A5CF-4C68-93D1-704F6F3B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679B8-6AA5-4345-A65A-7CD0B62D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BC2A6-9357-453D-954A-A3885640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C9A9-ABE8-4069-8954-45349F7F5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FE6E-F656-48CF-82DA-AD18A38085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3FAB-F975-4CF4-9B47-8FB93B0B39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7C69-ABCF-4046-99EC-FC159497DA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D519-E319-4C89-9CF4-8EEB6E113C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51A4-99B4-4ACF-B845-370816A356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559C-5D0A-40BD-9527-9C75FFFB97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EE3C-7444-453A-A2F0-F70B567BAA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7E3D-7672-46B5-8684-5AD58E6F4B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4B86-A6E9-4A8D-AAE4-35AF0A1C19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DBEF-91B4-4478-8010-79087C9500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8BE9-F03F-45C0-8052-8D5CD3B6AA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1D77-A192-494D-B4A3-F201AB8BE3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D31B-8F34-4B02-8840-EB6D9BDFCE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E71E-E898-4DE5-85D4-B12B14E004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9695-87BE-4AA2-9D13-787FC5982F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633D-7C97-4EEB-9258-924565E3D6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F8BA-C2B7-435C-AC3B-073446F3C9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A5A0-59B1-4AA8-B457-FA706C2869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8265-0719-4658-9649-50B07E0506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7C57-014D-4694-945A-15FAC3828E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D327-9C7C-4F94-8704-30786F9295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1417-EFEA-4829-BF99-C046DF2C09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A241-9778-47D9-A007-6751D0BEC2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555F-9558-4D29-9150-94F84E6955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C8BB-8976-4C1E-B509-9CCCDE04D5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E1EA-86C0-4002-93FE-574C5C8CE6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485A-642E-4893-AB74-4A6B444E3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EC02-C918-4699-8874-0663639A3C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B8D4-E46B-4AA1-9EF6-DC9D2DD4D2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4EDE-8159-4F91-8295-7197BF40EF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DF98-F478-47D6-859D-8A2B8C65B0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594A-A437-4E6F-B386-04C9FB7742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0455-14EE-440D-866E-BB7769A474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BF91-655B-40DF-B81B-23352ACF74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D7D4-A148-4362-8802-1B3EC5856B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EEBC-BBBC-4457-B7A8-21F5A8C3BF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29AD-BAF2-478C-8E57-667703AF31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EC3F-3452-4B23-8C54-8039739389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666E-48F6-4B4A-BEA1-2EEA6F4224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852480" y="2502000"/>
            <a:ext cx="7439040" cy="76176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2247840" y="4033800"/>
            <a:ext cx="4857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28520" y="1719360"/>
            <a:ext cx="8885160" cy="341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1042920" y="22906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04292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042920" y="34718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042920" y="4076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971640" y="46530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33200" y="138240"/>
            <a:ext cx="8877600" cy="658152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5122" descr=""/>
          <p:cNvPicPr/>
          <p:nvPr/>
        </p:nvPicPr>
        <p:blipFill>
          <a:blip r:embed="rId2"/>
          <a:stretch/>
        </p:blipFill>
        <p:spPr>
          <a:xfrm>
            <a:off x="6227640" y="2838600"/>
            <a:ext cx="1800360" cy="54432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5123" descr=""/>
          <p:cNvPicPr/>
          <p:nvPr/>
        </p:nvPicPr>
        <p:blipFill>
          <a:blip r:embed="rId3"/>
          <a:stretch/>
        </p:blipFill>
        <p:spPr>
          <a:xfrm>
            <a:off x="3174840" y="4307040"/>
            <a:ext cx="1800360" cy="54432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5124" descr=""/>
          <p:cNvPicPr/>
          <p:nvPr/>
        </p:nvPicPr>
        <p:blipFill>
          <a:blip r:embed="rId4"/>
          <a:stretch/>
        </p:blipFill>
        <p:spPr>
          <a:xfrm>
            <a:off x="6343560" y="4307040"/>
            <a:ext cx="2405160" cy="54432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5125" descr=""/>
          <p:cNvPicPr/>
          <p:nvPr/>
        </p:nvPicPr>
        <p:blipFill>
          <a:blip r:embed="rId5"/>
          <a:stretch/>
        </p:blipFill>
        <p:spPr>
          <a:xfrm>
            <a:off x="3521160" y="5748480"/>
            <a:ext cx="1800000" cy="54432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5126" descr=""/>
          <p:cNvPicPr/>
          <p:nvPr/>
        </p:nvPicPr>
        <p:blipFill>
          <a:blip r:embed="rId6"/>
          <a:stretch/>
        </p:blipFill>
        <p:spPr>
          <a:xfrm>
            <a:off x="7221600" y="5762520"/>
            <a:ext cx="145404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76320" y="1428840"/>
            <a:ext cx="89913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42960" y="2004840"/>
            <a:ext cx="7856640" cy="28483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971640" y="2565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97164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971640" y="3716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971640" y="43070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4:03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